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5.jpeg" ContentType="image/jpeg"/>
  <Override PartName="/ppt/media/image18.wmf" ContentType="image/x-wmf"/>
  <Override PartName="/ppt/media/image17.png" ContentType="image/pn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53F-2120-48BF-8664-26087A9B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428-78C1-41DA-9212-575657CC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A288F-7977-4CC3-AE56-63E463CC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8582B-6706-48B2-8D21-A1492FB2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43C4D-355B-4F46-B2CC-2D8C8F65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9D907-68B9-4719-9D37-02F2C822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E7D04-1966-45DB-874F-63DE7441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BE765-CD4F-4261-84C7-834DC32E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66793-60F4-4649-9EA0-A8F2AB5D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D8D21-3684-444C-BDF1-659D034A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DD651-839B-4662-998F-591430F9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70C-32C3-4576-A420-3D9C09FC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534-8D88-4C42-B1AA-2F116C6C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2109-EF81-4A94-8885-D6F1F475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84E0-134B-42B2-AADF-8B904AE9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5AD6-7DD6-4A7F-B620-9F7FEBED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02AF-F3E7-4B21-A864-1CAE30ED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7E38-7F89-4FB0-9791-3D78D4A9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3127-2B85-4B0B-8F8F-ED812C28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FD29-660B-48DC-9853-03331E5D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4D4-815D-426A-B526-348E02C1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A820-8873-4169-BE7F-24F26EBD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059E-087D-4571-8B1E-60F83AA4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6317-DBE2-42BE-909A-23194CB1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4ABB-013C-40C3-B8CE-AC14AFE6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8268-FB5F-4D91-B529-14AD9DE9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922E-4DC1-4F04-8952-E820776D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DB49-2CEE-4D2D-A60F-2EA2781C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F3AC-FCA0-4F2D-BE5D-BDB51E25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59F7-67C3-403F-A046-082D24DA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6414-3758-41FB-8D70-37A68971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26D-502B-4035-A4D8-774CBB3A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1D7C-6C6C-4CCA-B19F-99E86B36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8CB1-5A2C-4D45-8B07-E571B3E5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DEC7-BAF6-4531-8CFC-2932D90D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8D6C1-6260-4163-9510-D3C27DA0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56B7-6335-4877-9544-BD1B78E1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17E51-4F2C-483C-B726-DA351943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2B14D-92F3-44E1-9D7A-3F5966D9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B8E9F-66E6-402A-B506-AAA0290B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13EF9-5C26-45CD-956C-CB002C8B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AFA5-3FFC-4DD0-9EB7-ED5FB163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C26-35A2-48C9-9EFD-5466E838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DAB2-FB05-463F-B9DE-2E7767B0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EDE09-9E0A-4B9A-8D12-3A5FC261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A438-D6A5-4A64-94F4-064AB0A0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571C-944F-4B7E-86D4-528FAF3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D2795-7E74-4E3F-A215-72426C6A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B902-FF9B-477E-8EF7-A5118519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93BB-85CE-4553-930E-A725453B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1910-D848-436B-91F2-BAA27288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0C39-4AE4-4EC8-B5E3-1E888EF3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89AA8-5766-412F-AFD7-C753406E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426-89F3-49E1-83B8-0576E5EB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092B3-9FB2-4E10-BDD8-0804756C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69605-C809-425C-9891-418488B1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59069-A26B-4D79-9414-EC3809B6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3DC59-5466-4E99-8959-CCA318CE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E9E03-2FB4-4C7A-B48F-752CC871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454AF-BCEE-4BF3-AD30-0665A1B6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E8C32-69AA-45E1-89EF-AEB68D90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9E062-65B3-45E4-B604-3AFB43D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5908E-43B5-4B86-B2E4-D4919942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7A3B-6B2D-4287-965F-892AFBF0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202-A431-490F-B977-3C82A982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66102-3FE9-4B03-9664-1DDDBE20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8DA5F-2360-4E60-97ED-5F62F289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5BB09-7A32-42F1-A491-90A392FD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F7135-22FA-4590-82F9-D1D27BC4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8D3D8-28D7-40E4-9315-FB5F353D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40467-6891-4E90-BD58-33D62524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2BC31-81AC-47E8-AB4F-F54E7E43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0E8B3-35AD-45BF-900E-0E5CDCFB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4D60D-0DFB-44FF-8A65-A5E1D6E5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5B996-FB62-4B75-B3DD-C9407AFE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3DB-4B91-4CF4-8C62-15FA963E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A867D-F595-4107-A1FF-F307B960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4E4CB-5D87-4A07-A898-7DC5AB12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99354-332D-44BA-B16A-68E66584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FEFF4-3F4F-4778-AB7D-BD98AE65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9A573-6364-4029-8D83-2667E4D0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003D4-A752-41B5-8AB5-F2CF1271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F8D50-28D2-4227-85FF-0A2B58C9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2F70-996B-4AAA-BD3B-9C26DB47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9604F-C68C-4F48-AC7E-5A6B077F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13A5F-11FC-4795-99DC-0D9107CA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FE5-B077-48EB-B2E5-AEF75DA9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4C621-AF5F-4BAA-8A99-523BB703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9359A-7424-483E-B1FC-FFD812AD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2B156-C269-4219-9C4A-6D3DBE0B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10D9-4954-41F8-86F2-76B730F5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7E24C-130B-4B63-9665-E0B43EC6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5CB0D-9DF4-4309-AADD-E7D7510A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7AED0-B739-4C1C-A77D-6D335BA0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91A61-0A76-4CD3-BC76-91C82618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CF0BA-280C-4A9E-B1A0-D32BCA4D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DF1FC-9E23-4751-9522-F12D66F2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F8D-43B6-4FFF-B651-B7A7F077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75FD2-9755-4583-A5E8-331CF701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3E93B-0C63-4ED0-9214-F10C2DB4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11500-C43D-47EC-A96B-07B70AEE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F0AA8-9940-4440-992C-E23FBA09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E3BD2-33C0-4285-9645-913D5B1A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CCBFA-1760-4F62-89C5-25D9E5A2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38459-075C-4EC5-BFFA-AE14141B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DB0F2-66D7-4F17-8153-46A083F6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14BF8-E1D2-4272-9EF0-C16EFF4C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B6E42-5513-4FED-A82F-0C8C6CFF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B27D-AC8C-422D-9ABD-83EA9ADD399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24B3-DC05-436F-8D4B-A8A4456BD9D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05DA-6FBF-4C2F-9E29-AAFE21B5584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0640-D6CE-4A7B-8006-674E78C3B1B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5964-89D1-4EAD-A17D-EED0124A2E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9254-7791-40D8-B848-7331A41E854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ED0B-A840-479A-9941-36C7C512FC8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7FA0-F8EF-4D06-B52C-BEF7AF15745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A7FA-7BA0-4DA4-9ED1-2838E1A3AA5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8" descr="图片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29"/>
          <p:cNvSpPr/>
          <p:nvPr/>
        </p:nvSpPr>
        <p:spPr>
          <a:xfrm>
            <a:off x="0" y="78588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Lesson 16</a:t>
            </a:r>
            <a:br>
              <a:rPr sz="6000"/>
            </a:b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ad1f1f"/>
                </a:solidFill>
                <a:latin typeface="Arial"/>
              </a:rPr>
              <a:t>Warm and Cool Colou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2"/>
          <p:cNvSpPr/>
          <p:nvPr/>
        </p:nvSpPr>
        <p:spPr>
          <a:xfrm>
            <a:off x="684360" y="692280"/>
            <a:ext cx="597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图片1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标题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0540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MV Boli"/>
                <a:ea typeface="MV Boli"/>
              </a:rPr>
              <a:t>In general, colours are divided into two groups: warm and cool colours. Psychologists believe that there are also ________________ of people: one group prefers warm colours and the other prefers ______________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MV Boli"/>
                <a:ea typeface="MV Boli"/>
              </a:rPr>
              <a:t>The warm colours are red, orange, and yellow. People think that such colours are _______________ and sociable people like them because they are warm-hearted. When people are in places with _________________, they usually want to be active. Researchers say that time seem to _________________ in a room with warm colours than in a room with cool colours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TextBox 4"/>
          <p:cNvSpPr/>
          <p:nvPr/>
        </p:nvSpPr>
        <p:spPr>
          <a:xfrm>
            <a:off x="3500280" y="2143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"/>
          <p:cNvSpPr/>
          <p:nvPr/>
        </p:nvSpPr>
        <p:spPr>
          <a:xfrm>
            <a:off x="857160" y="2857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 col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"/>
          <p:cNvSpPr/>
          <p:nvPr/>
        </p:nvSpPr>
        <p:spPr>
          <a:xfrm>
            <a:off x="1000080" y="385776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3571920" y="45007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col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2286000" y="52149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more 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图片16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5"/>
          <p:cNvSpPr/>
          <p:nvPr/>
        </p:nvSpPr>
        <p:spPr>
          <a:xfrm>
            <a:off x="395280" y="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MV Boli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250920" y="836640"/>
            <a:ext cx="81374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V Boli"/>
              </a:rPr>
              <a:t>1.Listen and repe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V Boli"/>
              </a:rPr>
              <a:t>2.Draw something warm and cool. Write the words and talk about them with your part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MV Boli"/>
              </a:rPr>
              <a:t>画出生活中温暖的和凉爽的东西（至少三种），标上单词，和同伴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图片1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033"/>
          <p:cNvPicPr/>
          <p:nvPr/>
        </p:nvPicPr>
        <p:blipFill>
          <a:blip r:embed="rId2"/>
          <a:stretch/>
        </p:blipFill>
        <p:spPr>
          <a:xfrm>
            <a:off x="0" y="260280"/>
            <a:ext cx="4427640" cy="4464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7"/>
          <p:cNvSpPr/>
          <p:nvPr/>
        </p:nvSpPr>
        <p:spPr>
          <a:xfrm>
            <a:off x="684360" y="5300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is c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034"/>
          <p:cNvPicPr/>
          <p:nvPr/>
        </p:nvPicPr>
        <p:blipFill>
          <a:blip r:embed="rId3"/>
          <a:stretch/>
        </p:blipFill>
        <p:spPr>
          <a:xfrm>
            <a:off x="4716360" y="260280"/>
            <a:ext cx="4427640" cy="4464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9"/>
          <p:cNvSpPr/>
          <p:nvPr/>
        </p:nvSpPr>
        <p:spPr>
          <a:xfrm>
            <a:off x="5076720" y="530064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t’s c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图片16"/>
          <p:cNvPicPr/>
          <p:nvPr/>
        </p:nvPicPr>
        <p:blipFill>
          <a:blip r:embed="rId1"/>
          <a:stretch/>
        </p:blipFill>
        <p:spPr>
          <a:xfrm>
            <a:off x="-609480" y="-2430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035"/>
          <p:cNvPicPr/>
          <p:nvPr/>
        </p:nvPicPr>
        <p:blipFill>
          <a:blip r:embed="rId2"/>
          <a:stretch/>
        </p:blipFill>
        <p:spPr>
          <a:xfrm>
            <a:off x="-324000" y="0"/>
            <a:ext cx="4751640" cy="3754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036"/>
          <p:cNvPicPr/>
          <p:nvPr/>
        </p:nvPicPr>
        <p:blipFill>
          <a:blip r:embed="rId3"/>
          <a:stretch/>
        </p:blipFill>
        <p:spPr>
          <a:xfrm>
            <a:off x="4500720" y="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7"/>
          <p:cNvSpPr/>
          <p:nvPr/>
        </p:nvSpPr>
        <p:spPr>
          <a:xfrm>
            <a:off x="0" y="4437000"/>
            <a:ext cx="4356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ch! That’s ho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5003640" y="4437000"/>
            <a:ext cx="33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is w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图片1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0" y="0"/>
            <a:ext cx="363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s is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u=3689262393,3824702071&amp;fm=23&amp;gp=0"/>
          <p:cNvPicPr/>
          <p:nvPr/>
        </p:nvPicPr>
        <p:blipFill>
          <a:blip r:embed="rId2"/>
          <a:stretch/>
        </p:blipFill>
        <p:spPr>
          <a:xfrm>
            <a:off x="-181080" y="620640"/>
            <a:ext cx="4859280" cy="2881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u=3420328774,1731732585&amp;fm=23&amp;gp=0"/>
          <p:cNvPicPr/>
          <p:nvPr/>
        </p:nvPicPr>
        <p:blipFill>
          <a:blip r:embed="rId3"/>
          <a:stretch/>
        </p:blipFill>
        <p:spPr>
          <a:xfrm>
            <a:off x="4788000" y="189000"/>
            <a:ext cx="4356000" cy="3260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u=1433566447,2426722260&amp;fm=23&amp;gp=0"/>
          <p:cNvPicPr/>
          <p:nvPr/>
        </p:nvPicPr>
        <p:blipFill>
          <a:blip r:embed="rId4"/>
          <a:stretch/>
        </p:blipFill>
        <p:spPr>
          <a:xfrm>
            <a:off x="-181080" y="3716280"/>
            <a:ext cx="4788000" cy="3141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March, April, May"/>
          <p:cNvPicPr/>
          <p:nvPr/>
        </p:nvPicPr>
        <p:blipFill>
          <a:blip r:embed="rId5"/>
          <a:stretch/>
        </p:blipFill>
        <p:spPr>
          <a:xfrm>
            <a:off x="4788000" y="3429000"/>
            <a:ext cx="415296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0"/>
          <p:cNvSpPr/>
          <p:nvPr/>
        </p:nvSpPr>
        <p:spPr>
          <a:xfrm>
            <a:off x="2268360" y="249228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7093080" y="256536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3132000" y="6093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7236000" y="61657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图片1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u=3081681993,3836679288&amp;fm=23&amp;gp=0"/>
          <p:cNvPicPr/>
          <p:nvPr/>
        </p:nvPicPr>
        <p:blipFill>
          <a:blip r:embed="rId2"/>
          <a:stretch/>
        </p:blipFill>
        <p:spPr>
          <a:xfrm>
            <a:off x="5003640" y="3900600"/>
            <a:ext cx="3981600" cy="29574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6"/>
          <p:cNvSpPr/>
          <p:nvPr/>
        </p:nvSpPr>
        <p:spPr>
          <a:xfrm>
            <a:off x="0" y="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’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7" descr="u=3535224270,2204710713&amp;fm=23&amp;gp=0"/>
          <p:cNvPicPr/>
          <p:nvPr/>
        </p:nvPicPr>
        <p:blipFill>
          <a:blip r:embed="rId3"/>
          <a:stretch/>
        </p:blipFill>
        <p:spPr>
          <a:xfrm>
            <a:off x="0" y="62064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1" descr="boots"/>
          <p:cNvPicPr/>
          <p:nvPr/>
        </p:nvPicPr>
        <p:blipFill>
          <a:blip r:embed="rId4"/>
          <a:stretch/>
        </p:blipFill>
        <p:spPr>
          <a:xfrm>
            <a:off x="5580000" y="333360"/>
            <a:ext cx="3240000" cy="3456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27" name="Text Box 10"/>
          <p:cNvSpPr/>
          <p:nvPr/>
        </p:nvSpPr>
        <p:spPr>
          <a:xfrm>
            <a:off x="2987640" y="321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6804000" y="328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995640" y="57340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5867280" y="5734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5" descr="MC900232816[1]"/>
          <p:cNvPicPr/>
          <p:nvPr/>
        </p:nvPicPr>
        <p:blipFill>
          <a:blip r:embed="rId5"/>
          <a:stretch/>
        </p:blipFill>
        <p:spPr>
          <a:xfrm>
            <a:off x="179280" y="4221000"/>
            <a:ext cx="3816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图片1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说一说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08760"/>
          </a:xfrm>
          <a:prstGeom prst="rect">
            <a:avLst/>
          </a:prstGeom>
          <a:ln w="0">
            <a:noFill/>
          </a:ln>
        </p:spPr>
      </p:pic>
      <p:sp>
        <p:nvSpPr>
          <p:cNvPr id="434" name="Line 6"/>
          <p:cNvSpPr/>
          <p:nvPr/>
        </p:nvSpPr>
        <p:spPr>
          <a:xfrm>
            <a:off x="4572000" y="2492280"/>
            <a:ext cx="50472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9"/>
          <p:cNvSpPr/>
          <p:nvPr/>
        </p:nvSpPr>
        <p:spPr>
          <a:xfrm flipH="1">
            <a:off x="4859280" y="2205000"/>
            <a:ext cx="720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0"/>
          <p:cNvSpPr/>
          <p:nvPr/>
        </p:nvSpPr>
        <p:spPr>
          <a:xfrm flipH="1">
            <a:off x="6588000" y="2637000"/>
            <a:ext cx="72072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1"/>
          <p:cNvSpPr/>
          <p:nvPr/>
        </p:nvSpPr>
        <p:spPr>
          <a:xfrm flipH="1">
            <a:off x="5076360" y="3573360"/>
            <a:ext cx="251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H="1" flipV="1">
            <a:off x="6587640" y="3068280"/>
            <a:ext cx="792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"/>
          <p:cNvSpPr/>
          <p:nvPr/>
        </p:nvSpPr>
        <p:spPr>
          <a:xfrm flipH="1" flipV="1">
            <a:off x="5435640" y="3212640"/>
            <a:ext cx="28872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4"/>
          <p:cNvSpPr/>
          <p:nvPr/>
        </p:nvSpPr>
        <p:spPr>
          <a:xfrm flipV="1">
            <a:off x="4572000" y="4220640"/>
            <a:ext cx="1728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3" descr="20111010093107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标题 1" descr=""/>
          <p:cNvPicPr/>
          <p:nvPr/>
        </p:nvPicPr>
        <p:blipFill>
          <a:blip r:embed="rId1"/>
          <a:stretch/>
        </p:blipFill>
        <p:spPr>
          <a:xfrm>
            <a:off x="-171360" y="-79200"/>
            <a:ext cx="9461520" cy="9144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Which of the following sentences is true?__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Lonely people like blu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Artists like r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Active people often like warm colour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2. If you prefer green to yellow, we can say that you _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like to be with oth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would rather stay alone than go to a noisy par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never speak to strang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TextBox 4"/>
          <p:cNvSpPr/>
          <p:nvPr/>
        </p:nvSpPr>
        <p:spPr>
          <a:xfrm>
            <a:off x="1857240" y="100008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5"/>
          <p:cNvSpPr/>
          <p:nvPr/>
        </p:nvSpPr>
        <p:spPr>
          <a:xfrm>
            <a:off x="2786040" y="3571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-26748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3. Which is the best colour for a study? 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Brown      B. Violet         C. Whi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4. Why do we think red a warm colour?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Because many warm things are r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Because we feel warm when we see red thing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Because red colour makes the place war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5. Generally, how many groups are colours divided into?__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MV Bol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Only two.          B. More than tw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MV Boli"/>
                <a:ea typeface="MV Boli"/>
              </a:rPr>
              <a:t>C. At least twelv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642960" y="35712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4"/>
          <p:cNvSpPr/>
          <p:nvPr/>
        </p:nvSpPr>
        <p:spPr>
          <a:xfrm>
            <a:off x="8143920" y="142884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3357720" y="4857840"/>
            <a:ext cx="78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13:37:57Z</dcterms:created>
  <dc:creator>微软用户</dc:creator>
  <dc:description/>
  <dc:language>en-US</dc:language>
  <cp:lastModifiedBy>USER</cp:lastModifiedBy>
  <dcterms:modified xsi:type="dcterms:W3CDTF">2014-03-24T11:24:38Z</dcterms:modified>
  <cp:revision>27</cp:revision>
  <dc:subject/>
  <dc:title>幻灯片 1</dc:title>
</cp:coreProperties>
</file>